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628-FD81-4486-AD92-D9965A0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744-ADE7-482C-A439-63A36EF2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2E8-E4DC-4F69-A945-041C3B3A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E03-FE8B-4577-9358-DF749A4B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28-86B8-48E8-A365-204A7CA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984-8B2A-444F-88D9-AD99B963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AE5-7C81-4372-9D44-823DDB47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C78-FFBB-4409-9656-B4BDD89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FF4-6F35-46E5-B1F3-478D263B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4A9-1DE8-4A5C-BBAA-02DB44E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E50-AC21-46CF-9D42-BF83851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F93-C15D-47B8-8E2B-A5A4935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495-AB0E-4D4D-8D23-8BA7B106CB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28600"/>
            <a:ext cx="8763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anguage 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 don’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inging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o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o I like comput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+v-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.g.I really enjoy listening to classical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95480"/>
            <a:ext cx="87631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起句子或分句（在否定句后）说某人、某事与刚才提到过的相同，这时要用倒装语序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正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.g David isn’t here tonigh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.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汤姆也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ither/Nor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51:45Z</dcterms:created>
  <dc:creator>user</dc:creator>
  <dc:description/>
  <dc:language>en-US</dc:language>
  <cp:lastModifiedBy>zhangjunguang</cp:lastModifiedBy>
  <dcterms:modified xsi:type="dcterms:W3CDTF">2003-08-08T14:14:13Z</dcterms:modified>
  <cp:revision>8</cp:revision>
  <dc:subject/>
  <dc:title>PowerPoint 演示文稿</dc:title>
</cp:coreProperties>
</file>